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FE14B-7B05-4861-8EB1-639B3F9E0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3DEB-45D2-4665-94F6-666C8A31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7349D-B4C9-4C22-850C-EF68E619E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F7A04-4220-4A9D-982B-9162D7C5B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44FD6-D17F-4B6A-AA20-5BA034CD7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8AEF-AB05-41A5-97FF-34EC87D8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5A61-120F-401F-8921-75029E10B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C9CF8-DBF2-4386-8BBF-97CB99339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E85B-247D-4C20-A35F-A6D4BB9F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3523-DED6-4CC4-8910-8783E05B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13CC-A023-412E-807A-C7A2A24C3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2716-4D4B-487D-9E72-716460757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C0B4-C8FE-43D9-8061-8661ED0BD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rojectread.com/"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ldanatl.org/" TargetMode="External"/><Relationship Id="rId2" Type="http://schemas.openxmlformats.org/officeDocument/2006/relationships/hyperlink" Target="http://www.bdadyslexia.org.uk/" TargetMode="External"/><Relationship Id="rId3" Type="http://schemas.openxmlformats.org/officeDocument/2006/relationships/hyperlink" Target="http://www.dyslexia-add.org/" TargetMode="External"/><Relationship Id="rId4" Type="http://schemas.openxmlformats.org/officeDocument/2006/relationships/hyperlink" Target="http://www.dyslexia-center.com/" TargetMode="External"/><Relationship Id="rId5" Type="http://schemas.openxmlformats.org/officeDocument/2006/relationships/hyperlink" Target="http://www.interdys.or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Receptive and Expressive Language Disabil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4097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ndsey Padl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rah Laur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mportance of Interven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dren with oral language disabilities require direct intervention since the consequences have a major impact on their academic experi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child has difficulty comprehending and utilizing the underlying structure of language, it affects their ability to accurately process or share information, whether listening, reading, or participating in discuss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What teachers can do in the classroom:</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ak slowly and clearly at all time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me instructional strategies for students’ processing/production err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ructor’s request:</a:t>
            </a:r>
            <a:r>
              <a:rPr b="0" lang="en-US" sz="2400" spc="-1" strike="noStrike">
                <a:solidFill>
                  <a:srgbClr val="000000"/>
                </a:solidFill>
                <a:latin typeface="Times New Roman"/>
                <a:ea typeface="Times New Roman"/>
              </a:rPr>
              <a:t>  Use </a:t>
            </a:r>
            <a:r>
              <a:rPr b="0" i="1" lang="en-US" sz="2400" spc="-1" strike="noStrike">
                <a:solidFill>
                  <a:srgbClr val="000000"/>
                </a:solidFill>
                <a:latin typeface="Times New Roman"/>
                <a:ea typeface="Times New Roman"/>
              </a:rPr>
              <a:t>lunge</a:t>
            </a:r>
            <a:r>
              <a:rPr b="0" lang="en-US" sz="2400" spc="-1" strike="noStrike">
                <a:solidFill>
                  <a:srgbClr val="000000"/>
                </a:solidFill>
                <a:latin typeface="Times New Roman"/>
                <a:ea typeface="Times New Roman"/>
              </a:rPr>
              <a:t> in a sente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response:</a:t>
            </a:r>
            <a:r>
              <a:rPr b="0" lang="en-US" sz="2400" spc="-1" strike="noStrike">
                <a:solidFill>
                  <a:srgbClr val="000000"/>
                </a:solidFill>
                <a:latin typeface="Times New Roman"/>
                <a:ea typeface="Times New Roman"/>
              </a:rPr>
              <a:t>  The students </a:t>
            </a:r>
            <a:r>
              <a:rPr b="0" i="1" lang="en-US" sz="2400" spc="-1" strike="noStrike">
                <a:solidFill>
                  <a:srgbClr val="000000"/>
                </a:solidFill>
                <a:latin typeface="Times New Roman"/>
                <a:ea typeface="Times New Roman"/>
              </a:rPr>
              <a:t>lunged</a:t>
            </a:r>
            <a:r>
              <a:rPr b="0" lang="en-US" sz="2400" spc="-1" strike="noStrike">
                <a:solidFill>
                  <a:srgbClr val="000000"/>
                </a:solidFill>
                <a:latin typeface="Times New Roman"/>
                <a:ea typeface="Times New Roman"/>
              </a:rPr>
              <a:t> around all d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a typeface="Times New Roman"/>
            </a:endParaRPr>
          </a:p>
        </p:txBody>
      </p:sp>
      <p:sp>
        <p:nvSpPr>
          <p:cNvPr id="6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some validation </a:t>
            </a:r>
            <a:r>
              <a:rPr b="0" i="1" lang="en-US" sz="1800" spc="-1" strike="noStrike">
                <a:solidFill>
                  <a:srgbClr val="000000"/>
                </a:solidFill>
                <a:latin typeface="Times New Roman"/>
                <a:ea typeface="Times New Roman"/>
              </a:rPr>
              <a:t>(that’s very close.  I may not have said it clearly…)</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ine further:  put the word into context and repeat the question</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roduce phonemic training:  Put </a:t>
            </a:r>
            <a:r>
              <a:rPr b="0" i="1" lang="en-US" sz="2400" spc="-1" strike="noStrike">
                <a:solidFill>
                  <a:srgbClr val="000000"/>
                </a:solidFill>
                <a:latin typeface="Times New Roman"/>
                <a:ea typeface="Times New Roman"/>
              </a:rPr>
              <a:t>lunge</a:t>
            </a:r>
            <a:r>
              <a:rPr b="0" lang="en-US" sz="2400" spc="-1" strike="noStrike">
                <a:solidFill>
                  <a:srgbClr val="000000"/>
                </a:solidFill>
                <a:latin typeface="Times New Roman"/>
                <a:ea typeface="Times New Roman"/>
              </a:rPr>
              <a:t> &amp; </a:t>
            </a:r>
            <a:r>
              <a:rPr b="0" i="1" lang="en-US" sz="2400" spc="-1" strike="noStrike">
                <a:solidFill>
                  <a:srgbClr val="000000"/>
                </a:solidFill>
                <a:latin typeface="Times New Roman"/>
                <a:ea typeface="Times New Roman"/>
              </a:rPr>
              <a:t>lounge</a:t>
            </a:r>
            <a:r>
              <a:rPr b="0" lang="en-US" sz="2400" spc="-1" strike="noStrike">
                <a:solidFill>
                  <a:srgbClr val="000000"/>
                </a:solidFill>
                <a:latin typeface="Times New Roman"/>
                <a:ea typeface="Times New Roman"/>
              </a:rPr>
              <a:t> on the board.  Ask W</a:t>
            </a:r>
            <a:r>
              <a:rPr b="0" i="1" lang="en-US" sz="2400" spc="-1" strike="noStrike">
                <a:solidFill>
                  <a:srgbClr val="000000"/>
                </a:solidFill>
                <a:latin typeface="Times New Roman"/>
                <a:ea typeface="Times New Roman"/>
              </a:rPr>
              <a:t>here do these two words differ?</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 (short u) vs. ‘ou’ Present other similar sounding/appearing words :  </a:t>
            </a:r>
            <a:r>
              <a:rPr b="0" i="1" lang="en-US" sz="2000" spc="-1" strike="noStrike">
                <a:solidFill>
                  <a:srgbClr val="000000"/>
                </a:solidFill>
                <a:latin typeface="Times New Roman"/>
                <a:ea typeface="Times New Roman"/>
              </a:rPr>
              <a:t>lunch</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lug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rify the miscue:  </a:t>
            </a:r>
            <a:r>
              <a:rPr b="0" i="1" lang="en-US" sz="2000" spc="-1" strike="noStrike">
                <a:solidFill>
                  <a:srgbClr val="000000"/>
                </a:solidFill>
                <a:latin typeface="Times New Roman"/>
                <a:ea typeface="Times New Roman"/>
              </a:rPr>
              <a:t>What’s that room where the kids hang out ?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gestural cues (act out the wor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emantic cues (from context – sent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sent word families and word associations for meanings of each word.</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k for synonyms and antonyms of each </a:t>
            </a:r>
            <a:r>
              <a:rPr b="0" lang="en-US" sz="2000" spc="-1" strike="noStrike">
                <a:solidFill>
                  <a:srgbClr val="000000"/>
                </a:solidFill>
                <a:latin typeface="Times New Roman"/>
                <a:ea typeface="Times New Roman"/>
              </a:rPr>
              <a:t>(where applicabl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8487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ceptive (processing) Morphological Errors :</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ural mar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st-tense mar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essive mar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positions denoting time :  Is January </a:t>
            </a:r>
            <a:r>
              <a:rPr b="0" i="1" lang="en-US" sz="2800" spc="-1" strike="noStrike">
                <a:solidFill>
                  <a:srgbClr val="000000"/>
                </a:solidFill>
                <a:latin typeface="Times New Roman"/>
                <a:ea typeface="Times New Roman"/>
              </a:rPr>
              <a:t>before</a:t>
            </a:r>
            <a:r>
              <a:rPr b="0" lang="en-US" sz="2800" spc="-1" strike="noStrike">
                <a:solidFill>
                  <a:srgbClr val="000000"/>
                </a:solidFill>
                <a:latin typeface="Times New Roman"/>
                <a:ea typeface="Times New Roman"/>
              </a:rPr>
              <a:t> or </a:t>
            </a:r>
            <a:r>
              <a:rPr b="0" i="1" lang="en-US" sz="2800" spc="-1" strike="noStrike">
                <a:solidFill>
                  <a:srgbClr val="000000"/>
                </a:solidFill>
                <a:latin typeface="Times New Roman"/>
                <a:ea typeface="Times New Roman"/>
              </a:rPr>
              <a:t>after</a:t>
            </a:r>
            <a:r>
              <a:rPr b="0" lang="en-US" sz="2800" spc="-1" strike="noStrike">
                <a:solidFill>
                  <a:srgbClr val="000000"/>
                </a:solidFill>
                <a:latin typeface="Times New Roman"/>
                <a:ea typeface="Times New Roman"/>
              </a:rPr>
              <a:t> April?   Student replies </a:t>
            </a:r>
            <a:r>
              <a:rPr b="0" i="1" lang="en-US" sz="2800" spc="-1" strike="noStrike">
                <a:solidFill>
                  <a:srgbClr val="000000"/>
                </a:solidFill>
                <a:latin typeface="Times New Roman"/>
                <a:ea typeface="Times New Roman"/>
              </a:rPr>
              <a:t>af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aratives giving greater value to first noun in the sentence:  Are rooms </a:t>
            </a:r>
            <a:r>
              <a:rPr b="0" i="1" lang="en-US" sz="2800" spc="-1" strike="noStrike">
                <a:solidFill>
                  <a:srgbClr val="000000"/>
                </a:solidFill>
                <a:latin typeface="Times New Roman"/>
                <a:ea typeface="Times New Roman"/>
              </a:rPr>
              <a:t>smaller</a:t>
            </a:r>
            <a:r>
              <a:rPr b="0" lang="en-US" sz="2800" spc="-1" strike="noStrike">
                <a:solidFill>
                  <a:srgbClr val="000000"/>
                </a:solidFill>
                <a:latin typeface="Times New Roman"/>
                <a:ea typeface="Times New Roman"/>
              </a:rPr>
              <a:t> or </a:t>
            </a:r>
            <a:r>
              <a:rPr b="0" i="1" lang="en-US" sz="2800" spc="-1" strike="noStrike">
                <a:solidFill>
                  <a:srgbClr val="000000"/>
                </a:solidFill>
                <a:latin typeface="Times New Roman"/>
                <a:ea typeface="Times New Roman"/>
              </a:rPr>
              <a:t>larger</a:t>
            </a:r>
            <a:r>
              <a:rPr b="0" lang="en-US" sz="2800" spc="-1" strike="noStrike">
                <a:solidFill>
                  <a:srgbClr val="000000"/>
                </a:solidFill>
                <a:latin typeface="Times New Roman"/>
                <a:ea typeface="Times New Roman"/>
              </a:rPr>
              <a:t> than buildings?  (Student replies </a:t>
            </a:r>
            <a:r>
              <a:rPr b="0" i="1" lang="en-US" sz="2800" spc="-1" strike="noStrike">
                <a:solidFill>
                  <a:srgbClr val="000000"/>
                </a:solidFill>
                <a:latin typeface="Times New Roman"/>
                <a:ea typeface="Times New Roman"/>
              </a:rPr>
              <a:t>larger</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8487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ressive Morphological Errors :</a:t>
            </a:r>
            <a:br>
              <a:rPr sz="3600"/>
            </a:b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 said:</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Meant to say:</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Type of error:</a:t>
            </a:r>
            <a:endParaRPr b="0" lang="en-US" sz="2000" spc="-1" strike="noStrike">
              <a:solidFill>
                <a:srgbClr val="000000"/>
              </a:solidFill>
              <a:latin typeface="Times New Roman"/>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oint</a:t>
            </a:r>
            <a:r>
              <a:rPr b="0" lang="en-US" sz="1800" spc="-1" strike="noStrike">
                <a:solidFill>
                  <a:srgbClr val="000000"/>
                </a:solidFill>
                <a:latin typeface="Times New Roman"/>
                <a:ea typeface="Times New Roman"/>
              </a:rPr>
              <a:t> him to the offi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ppoi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ropped prefix</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ain</a:t>
            </a:r>
            <a:r>
              <a:rPr b="0" i="1" lang="en-US" sz="1800" spc="-1" strike="noStrike">
                <a:solidFill>
                  <a:srgbClr val="000000"/>
                </a:solidFill>
                <a:latin typeface="Times New Roman"/>
                <a:ea typeface="Times New Roman"/>
              </a:rPr>
              <a:t>m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tain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ed incorrect derivational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nding</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n</a:t>
            </a:r>
            <a:r>
              <a:rPr b="0" lang="en-US" sz="1800" spc="-1" strike="noStrike">
                <a:solidFill>
                  <a:srgbClr val="000000"/>
                </a:solidFill>
                <a:latin typeface="Times New Roman"/>
                <a:ea typeface="Times New Roman"/>
              </a:rPr>
              <a:t>film</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velo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tempted to work with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gative prefix</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 brok</a:t>
            </a:r>
            <a:r>
              <a:rPr b="0" i="1" lang="en-US" sz="1800" spc="-1" strike="noStrike">
                <a:solidFill>
                  <a:srgbClr val="000000"/>
                </a:solidFill>
                <a:latin typeface="Times New Roman"/>
                <a:ea typeface="Times New Roman"/>
              </a:rPr>
              <a:t>en</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 brok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fused present perfect/pas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nse</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oesn’t</a:t>
            </a:r>
            <a:r>
              <a:rPr b="0" lang="en-US" sz="1800" spc="-1" strike="noStrike">
                <a:solidFill>
                  <a:srgbClr val="000000"/>
                </a:solidFill>
                <a:latin typeface="Times New Roman"/>
                <a:ea typeface="Times New Roman"/>
              </a:rPr>
              <a:t> supposed to b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s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fused linking verbs</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ou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i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vergeneralized rule for plurals</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 </a:t>
            </a:r>
            <a:r>
              <a:rPr b="0" i="1" lang="en-US" sz="1800" spc="-1" strike="noStrike">
                <a:solidFill>
                  <a:srgbClr val="000000"/>
                </a:solidFill>
                <a:latin typeface="Times New Roman"/>
                <a:ea typeface="Times New Roman"/>
              </a:rPr>
              <a:t>bra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 brough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vergeneralized an irregular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erb form</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kills are divided into 5 linguistic areas</a:t>
            </a:r>
            <a:r>
              <a:rPr b="1" lang="fr-FR"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onology (speech sound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phology (meaningful word pa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ntax (sentence structur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mantics (meaning, vocabulary), an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agmatics (social communication, discours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isabeth Wiig and Eleanor Semel (1984) </a:t>
            </a:r>
            <a:r>
              <a:rPr b="0" i="1" lang="en-US" sz="1800" spc="-1" strike="noStrike">
                <a:solidFill>
                  <a:srgbClr val="000000"/>
                </a:solidFill>
                <a:latin typeface="Times New Roman"/>
                <a:ea typeface="Times New Roman"/>
              </a:rPr>
              <a:t>Language Assessment &amp; Intervention for the Learning Disabled</a:t>
            </a:r>
            <a:r>
              <a:rPr b="0" lang="en-US" sz="1800" spc="-1" strike="noStrike">
                <a:solidFill>
                  <a:srgbClr val="000000"/>
                </a:solidFill>
                <a:latin typeface="Times New Roman"/>
                <a:ea typeface="Times New Roman"/>
              </a:rPr>
              <a:t>, 2</a:t>
            </a:r>
            <a:r>
              <a:rPr b="0" lang="en-US" sz="1800" spc="-1" strike="noStrike" baseline="30000">
                <a:solidFill>
                  <a:srgbClr val="000000"/>
                </a:solidFill>
                <a:latin typeface="Times New Roman"/>
                <a:ea typeface="Times New Roman"/>
              </a:rPr>
              <a:t>nd</a:t>
            </a:r>
            <a:r>
              <a:rPr b="0" lang="en-US" sz="1800" spc="-1" strike="noStrike">
                <a:solidFill>
                  <a:srgbClr val="000000"/>
                </a:solidFill>
                <a:latin typeface="Times New Roman"/>
                <a:ea typeface="Times New Roman"/>
              </a:rPr>
              <a:t> Edition.  Pragmatics goals from Barbara Weinrich, et al. </a:t>
            </a:r>
            <a:r>
              <a:rPr b="0" i="1" lang="en-US" sz="1800" spc="-1" strike="noStrike">
                <a:solidFill>
                  <a:srgbClr val="000000"/>
                </a:solidFill>
                <a:latin typeface="Times New Roman"/>
                <a:ea typeface="Times New Roman"/>
              </a:rPr>
              <a:t>Pragmatics for Adolescents in the Classroom</a:t>
            </a:r>
            <a:r>
              <a:rPr b="0" lang="en-US" sz="1800" spc="-1" strike="noStrike">
                <a:solidFill>
                  <a:srgbClr val="000000"/>
                </a:solidFill>
                <a:latin typeface="Times New Roman"/>
                <a:ea typeface="Times New Roman"/>
              </a:rPr>
              <a:t> and Charlann Simon’s </a:t>
            </a:r>
            <a:r>
              <a:rPr b="0" i="1" lang="en-US" sz="1800" spc="-1" strike="noStrike">
                <a:solidFill>
                  <a:srgbClr val="000000"/>
                </a:solidFill>
                <a:latin typeface="Times New Roman"/>
                <a:ea typeface="Times New Roman"/>
              </a:rPr>
              <a:t>Evaluating Communicative Competence</a:t>
            </a:r>
            <a:r>
              <a:rPr b="0" lang="en-US" sz="1800" spc="-1" strike="noStrike">
                <a:solidFill>
                  <a:srgbClr val="000000"/>
                </a:solidFill>
                <a:latin typeface="Times New Roman"/>
                <a:ea typeface="Times New Roman"/>
              </a:rPr>
              <a:t>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urricular Modifications:</a:t>
            </a:r>
            <a:br>
              <a:rPr sz="4400"/>
            </a:br>
            <a:endParaRPr b="0" lang="en-US" sz="4400" spc="-1" strike="noStrike">
              <a:solidFill>
                <a:srgbClr val="000000"/>
              </a:solidFill>
              <a:latin typeface="Times New Roman"/>
            </a:endParaRPr>
          </a:p>
        </p:txBody>
      </p:sp>
      <p:sp>
        <p:nvSpPr>
          <p:cNvPr id="73"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ing the curriculum to meet the needs of all learners is very important. Modifications will vary based on the students and the grade level. Curricular modifications that have been successful for a kindergarten student with receptive-expressive language disability and have been helpful to all the students include the follow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oral directions and having the student follow what the other students are do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ntroducing a new word, we point it out in the text and have the student point to it and read it (focusing on only one new word at a tim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iced that the student was particularly good at memorizing what he saw visually, so while teaching the alphabet, we had him memorize the letter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icular Modifications (con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our student point to the words as he is re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ssist him in phonological awareness, we play a sound game where he places a coin in a slot for every syllable/sound that he hears in the word, and we limit it to words with 2-3 syll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learning the color words, we sent home flashcards for the student to practice memorizing the words. We also went over the words with him during reading groups. His strength is memorization, so he knows the words by memorizing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what the student says in a complete sentence, and having him repeat after 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Instructional Materials :</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Language Circle Enterprises</a:t>
            </a:r>
            <a:r>
              <a:rPr b="0" lang="fr-FR"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Project Read/Language Circle 800-450-0343</a:t>
            </a:r>
            <a:r>
              <a:rPr b="0" lang="fr-FR" sz="1400" spc="-1" strike="noStrike">
                <a:solidFill>
                  <a:srgbClr val="3333cc"/>
                </a:solidFill>
                <a:latin typeface="Times New Roman"/>
                <a:ea typeface="Times New Roman"/>
              </a:rPr>
              <a:t> </a:t>
            </a:r>
            <a:r>
              <a:rPr b="0" lang="en-US" sz="1400" spc="-1" strike="noStrike" u="sng">
                <a:solidFill>
                  <a:srgbClr val="ccccff"/>
                </a:solidFill>
                <a:uFillTx/>
                <a:latin typeface="Times New Roman"/>
                <a:ea typeface="Times New Roman"/>
                <a:hlinkClick r:id="rId1"/>
              </a:rPr>
              <a:t>http://www.projectread.com</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McCarthy, T. 1997.  Teaching literary elements.  NY :  Scholastic Professional Book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Bush, C. 1979.  Language remediation and expansiion – 100 skill-building reference lists.  Tucson, AZ :  Communication Skill Builder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Gajewski, Nancy, et al.  1989.  Social skills strategies, books A &amp; B.  Tucson, AZ :  Thinking Publication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Johnston, Elizabeth, et al.  1984.  A sourcebook of pragmatic activities.  Tucson, AZ :  Communication Skill Builder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Kisner, Rita, et al.  Warm-Up Exercises – Calisthenics for the brain, Books 1,2, 3.  Eau Claire, WI :  Thinking Publication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Mayo, Patty, et al.  Scripting :  social communication for adolescents.  1986.  Eau Claire, WI :  Thinking Publication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Zachman, L. et al.  1982.  Manual of exercises for expressive reasoning.  Moline, IL :  Lingui System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Wiig, E. and Semel, E.  1984.  Language assessment &amp; intervention for the learning disabled (2</a:t>
            </a:r>
            <a:r>
              <a:rPr b="0" lang="en-US" sz="1400" spc="-1" strike="noStrike" baseline="30000">
                <a:solidFill>
                  <a:srgbClr val="3333cc"/>
                </a:solidFill>
                <a:latin typeface="Times New Roman"/>
                <a:ea typeface="Times New Roman"/>
              </a:rPr>
              <a:t>nd</a:t>
            </a:r>
            <a:r>
              <a:rPr b="0" lang="en-US" sz="1400" spc="-1" strike="noStrike">
                <a:solidFill>
                  <a:srgbClr val="3333cc"/>
                </a:solidFill>
                <a:latin typeface="Times New Roman"/>
                <a:ea typeface="Times New Roman"/>
              </a:rPr>
              <a:t> ed.).  Columbus, OH :  Merrill.</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Wiig, E. and Secord, W.  1989.  Test of Language Competence—Expanded.  San Antonio :  The Psychological Corporation.</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Cullinan, Bernice.  1993.  Children’s voices :  talk in the classroom.  Newark, DE :  Intl. Reading Association.</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Semel, E., Wiig, E., and Secord, W.  1995.  Clinical Evaluation of Language Fundamental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Palmer, Michelle O’Brian.  1997.  Great Graphic Organizers to Use with Any Book !  NY :  Scholastic, Inc.</a:t>
            </a:r>
            <a:r>
              <a:rPr b="0" lang="en-US"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Additional Internet Resources for Language-based Learning Disabilitie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rPr>
              <a:t>Learning Disabilities Associatio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2"/>
              </a:rPr>
              <a:t>British Dyslexia Association</a:t>
            </a:r>
            <a:r>
              <a:rPr b="0" lang="en-US" sz="2800" spc="-1" strike="noStrike" u="sng">
                <a:solidFill>
                  <a:srgbClr val="3333cc"/>
                </a:solidFill>
                <a:uFillTx/>
                <a:latin typeface="Times New Roman"/>
                <a:ea typeface="Times New Roman"/>
              </a:rPr>
              <a:t>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3"/>
              </a:rPr>
              <a:t>Dyslexia Research Institut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4"/>
              </a:rPr>
              <a:t>Dyslexia Awareness and Resource Center</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5"/>
              </a:rPr>
              <a:t>International Dyslexia Organ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term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nguage:  a socially shared code or conventional system for representing concepts through the use of arbitrary symbols and rule-governed combinations of those symbols.  (Shames, Wiig, &amp; Secord,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nguage disorder:  impaired comprehension or use of spoken, written, or other symbol syste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isorder may involv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form of language (</a:t>
            </a:r>
            <a:r>
              <a:rPr b="0" i="1" lang="en-US" sz="3200" spc="-1" strike="noStrike">
                <a:solidFill>
                  <a:srgbClr val="000000"/>
                </a:solidFill>
                <a:latin typeface="Times New Roman"/>
                <a:ea typeface="Times New Roman"/>
              </a:rPr>
              <a:t>structure</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honology, morphology, synta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ntent of language (</a:t>
            </a:r>
            <a:r>
              <a:rPr b="0" i="1" lang="en-US" sz="3200" spc="-1" strike="noStrike">
                <a:solidFill>
                  <a:srgbClr val="000000"/>
                </a:solidFill>
                <a:latin typeface="Times New Roman"/>
                <a:ea typeface="Times New Roman"/>
              </a:rPr>
              <a:t>semantics</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aning, vocabul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function of language (</a:t>
            </a:r>
            <a:r>
              <a:rPr b="0" i="1" lang="en-US" sz="3200" spc="-1" strike="noStrike">
                <a:solidFill>
                  <a:srgbClr val="000000"/>
                </a:solidFill>
                <a:latin typeface="Times New Roman"/>
                <a:ea typeface="Times New Roman"/>
              </a:rPr>
              <a:t>pragmatics</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cial communication, discour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rican Speech-Language-Hearing Association, 1993</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isconceptio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eople with learning disabilities who can't use proper grammar are not very brigh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Times New Roman"/>
              </a:rPr>
              <a:t>How Common Are Language-Based Learning Disabilities?</a:t>
            </a:r>
            <a:br>
              <a:rPr sz="3600"/>
            </a:b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15-20% of the population have a language-based learning disability.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f the students with specific learning disabilities receiving special education services, 70-80% have deficits in read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are some of the characteristics of a student with a mixed Receptive-Expressive Language Disabilit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udent may have difficulty in some or all of the following area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ng ideas clearly, as if the words needed are on the tip of the tongue but won't come ou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new vocabulary that the child hears (e.g., taught in lectures/lessons) and/or sees (e.g., in book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questions and following directions that are heard and/or re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ing numbers in sequence (e.g., telephone numbers and address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and retaining the details of a story's plot or a classroom lectur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g and comprehending mater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aracteristics (continued)</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words to songs and rhym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left from right, making it hard to read and write since both skills require this directionalit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s and numb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the alphabe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ing the sounds that correspond to letters, making learning to read difficul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up the order of letters in words while wri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up the order of numbers that are a part of math calcul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ll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zing the times tabl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How is a language-based learning disability diagnosed? </a:t>
            </a:r>
            <a:r>
              <a:rPr b="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
          <p:cNvSpPr/>
          <p:nvPr/>
        </p:nvSpPr>
        <p:spPr>
          <a:xfrm>
            <a:off x="609480" y="2057400"/>
            <a:ext cx="79250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peech &amp; Language Pathologist will evaluate spoken (speaking and listening) and written (reading and writing) language for children who have been identified by their teachers and parents as a candidate for having a language-based learning disabil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serve whether the child can read and understand information on handouts and in textboo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 the student's ability to hear and "play with" sounds in words (phonological awareness skill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ve the child put together syllables and sounds to make a wor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e if the child can break up a word into its syllables and/or sounds (e.g., "cat" has one syllable but three sounds c-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 the older child's phonological memory by having him or her repeat strings of words, numbers, letters, and sounds of increasing leng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What treatments are available for people with a language-based learning disability</a:t>
            </a:r>
            <a:r>
              <a:rPr b="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he goals of speech and language treatment for the child with a reading problem target the specific aspects of reading and writing that the student is missi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ndividualized programs always relate to the school work. Therefore, materials for treatment are taken from or are directly related to content from class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ntervention with spoken language (speaking and listening) can also be designed to support the development of written languag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he SLP consults and collaborates with teachers to develop the use of strategies and techniques in the classro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23:12:36Z</dcterms:created>
  <dc:creator>Sarah</dc:creator>
  <dc:description/>
  <dc:language>en-US</dc:language>
  <cp:lastModifiedBy>Sarah</cp:lastModifiedBy>
  <dcterms:modified xsi:type="dcterms:W3CDTF">2009-05-01T22:41:47Z</dcterms:modified>
  <cp:revision>55</cp:revision>
  <dc:subject/>
  <dc:title>Receptive and Expressive Language Disability </dc:title>
</cp:coreProperties>
</file>